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A249-47B2-4AF6-BAF3-8E06E9B08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6A35-96FD-4BB9-BE27-5BED45629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EA5C-F3F9-43D7-ACC6-41FAA89F8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EA17-12D8-4CAC-A9CE-FB656C1BF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D5F26-7328-4EAE-A248-3C43BFFDB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51D52-E3D0-49C8-814F-B821B519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73346-4CFD-4645-A0F8-CF1BA4C80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46DE7-D5B9-49A3-8605-9D530B57F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C2F35-940F-4EAE-8C8E-1580BA711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FB084-F7AB-466C-A4C0-0B11C5571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5FDBB-C48E-4A59-A7BA-CB05A70C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F966-71B8-4CBE-A649-B0D80D92C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98E80-707A-48D2-9A44-0C0F329C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EAE67-D88F-4E7A-A2E4-86FCC063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AAEAF-4A5A-4182-946F-702120046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5A6A3-B474-4D15-BD42-CB85E2698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927E7-3A1E-4E1A-AE85-4F3EF0C02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DA47-9B01-4F51-B565-B8240E9C8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1F60-22B0-4416-AAE3-6C61D9AD0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5CD6-0028-4AE4-B731-876149539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79C5-9922-4B6B-8F7A-D290507B3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3070-837D-45F0-B1C7-F24D858E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D854-2232-4E97-ADA2-FD7FD19C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4D9A-F03B-4C81-A479-ED15A75D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891E2-B906-4010-8A71-6EC82AE5D1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svetofor4pq.gif"/>
          <p:cNvPicPr/>
          <p:nvPr/>
        </p:nvPicPr>
        <p:blipFill>
          <a:blip r:embed="rId3"/>
          <a:stretch/>
        </p:blipFill>
        <p:spPr>
          <a:xfrm>
            <a:off x="184320" y="214200"/>
            <a:ext cx="8799480" cy="6429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BD1EA-2A73-42C3-B888-B93B2F5602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 rot="20711400">
            <a:off x="182520" y="2561760"/>
            <a:ext cx="8331120" cy="11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Правила дорожного </a:t>
            </a:r>
            <a:br>
              <a:rPr sz="4400"/>
            </a:b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движения </a:t>
            </a:r>
            <a:br>
              <a:rPr sz="4400"/>
            </a:b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для дет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Содержимое 3" descr="33.jpg"/>
          <p:cNvPicPr/>
          <p:nvPr/>
        </p:nvPicPr>
        <p:blipFill>
          <a:blip r:embed="rId1"/>
          <a:stretch/>
        </p:blipFill>
        <p:spPr>
          <a:xfrm>
            <a:off x="1116000" y="765000"/>
            <a:ext cx="6985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Содержимое 3" descr="44.jpeg"/>
          <p:cNvPicPr/>
          <p:nvPr/>
        </p:nvPicPr>
        <p:blipFill>
          <a:blip r:embed="rId1"/>
          <a:stretch/>
        </p:blipFill>
        <p:spPr>
          <a:xfrm>
            <a:off x="1116000" y="836640"/>
            <a:ext cx="69850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Содержимое 3" descr="55.jpg"/>
          <p:cNvPicPr/>
          <p:nvPr/>
        </p:nvPicPr>
        <p:blipFill>
          <a:blip r:embed="rId1"/>
          <a:stretch/>
        </p:blipFill>
        <p:spPr>
          <a:xfrm>
            <a:off x="1116000" y="981000"/>
            <a:ext cx="669600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Содержимое 3" descr="66.jpg"/>
          <p:cNvPicPr/>
          <p:nvPr/>
        </p:nvPicPr>
        <p:blipFill>
          <a:blip r:embed="rId1"/>
          <a:stretch/>
        </p:blipFill>
        <p:spPr>
          <a:xfrm>
            <a:off x="1116000" y="620640"/>
            <a:ext cx="69850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Содержимое 3" descr="99.jpg"/>
          <p:cNvPicPr/>
          <p:nvPr/>
        </p:nvPicPr>
        <p:blipFill>
          <a:blip r:embed="rId1"/>
          <a:stretch/>
        </p:blipFill>
        <p:spPr>
          <a:xfrm>
            <a:off x="1093680" y="692280"/>
            <a:ext cx="7078680" cy="54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готовил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спитатели: Якубенко.Е.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жгалиева.Г.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Содержимое 3" descr="0010-010-Eto-svetofor-on-reguliruet-dvizhenie-transporta-i-peshekhodov-na.jpg"/>
          <p:cNvPicPr/>
          <p:nvPr/>
        </p:nvPicPr>
        <p:blipFill>
          <a:blip r:embed="rId1"/>
          <a:stretch/>
        </p:blipFill>
        <p:spPr>
          <a:xfrm>
            <a:off x="1116000" y="836640"/>
            <a:ext cx="6912000" cy="52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Содержимое 3" descr="светофор.jpg"/>
          <p:cNvPicPr/>
          <p:nvPr/>
        </p:nvPicPr>
        <p:blipFill>
          <a:blip r:embed="rId1"/>
          <a:stretch/>
        </p:blipFill>
        <p:spPr>
          <a:xfrm>
            <a:off x="1092240" y="765000"/>
            <a:ext cx="7080120" cy="53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Содержимое 3" descr="008-2012-006.jpg"/>
          <p:cNvPicPr/>
          <p:nvPr/>
        </p:nvPicPr>
        <p:blipFill>
          <a:blip r:embed="rId1"/>
          <a:stretch/>
        </p:blipFill>
        <p:spPr>
          <a:xfrm>
            <a:off x="1116000" y="765000"/>
            <a:ext cx="705636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Содержимое 3" descr="60_4.gif"/>
          <p:cNvPicPr/>
          <p:nvPr/>
        </p:nvPicPr>
        <p:blipFill>
          <a:blip r:embed="rId1"/>
          <a:stretch/>
        </p:blipFill>
        <p:spPr>
          <a:xfrm>
            <a:off x="2050920" y="1093680"/>
            <a:ext cx="5042160" cy="50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Содержимое 3" descr="63_4.gif"/>
          <p:cNvPicPr/>
          <p:nvPr/>
        </p:nvPicPr>
        <p:blipFill>
          <a:blip r:embed="rId1"/>
          <a:stretch/>
        </p:blipFill>
        <p:spPr>
          <a:xfrm>
            <a:off x="1835280" y="1341360"/>
            <a:ext cx="568944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Содержимое 3" descr="nadzemny_perehod.jpg"/>
          <p:cNvPicPr/>
          <p:nvPr/>
        </p:nvPicPr>
        <p:blipFill>
          <a:blip r:embed="rId1"/>
          <a:stretch/>
        </p:blipFill>
        <p:spPr>
          <a:xfrm>
            <a:off x="2268360" y="917640"/>
            <a:ext cx="496764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Содержимое 3" descr="1.jpg"/>
          <p:cNvPicPr/>
          <p:nvPr/>
        </p:nvPicPr>
        <p:blipFill>
          <a:blip r:embed="rId1"/>
          <a:stretch/>
        </p:blipFill>
        <p:spPr>
          <a:xfrm>
            <a:off x="1116000" y="620640"/>
            <a:ext cx="705636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Содержимое 3" descr="2.jpg"/>
          <p:cNvPicPr/>
          <p:nvPr/>
        </p:nvPicPr>
        <p:blipFill>
          <a:blip r:embed="rId1"/>
          <a:stretch/>
        </p:blipFill>
        <p:spPr>
          <a:xfrm>
            <a:off x="976320" y="692280"/>
            <a:ext cx="719604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1T15:55:50Z</dcterms:created>
  <dc:creator>Admin</dc:creator>
  <dc:description/>
  <dc:language>en-US</dc:language>
  <cp:lastModifiedBy>Гаухар Кажгалиева</cp:lastModifiedBy>
  <dcterms:modified xsi:type="dcterms:W3CDTF">2020-10-18T19:05:06Z</dcterms:modified>
  <cp:revision>7</cp:revision>
  <dc:subject/>
  <dc:title>Слайд 1</dc:title>
</cp:coreProperties>
</file>